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642-687E-4C08-AB09-6DA9B7A7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F5C-BA57-4D1D-8562-27AD4F7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E27-BA04-4856-AC39-E90EC346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B88-198E-4A45-AF98-1571724B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8E6-BC1C-44DD-8F9F-19DEE6DF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374-74AA-4D20-BF5D-23E7546C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0A4-1E40-49A2-BE14-3B80BCDF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82A-59E4-4A19-9D3F-F74EB50F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3C9-B507-468A-B6F5-5C2C856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F8E-687D-4F44-8283-0F84FF3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777-7A74-4FB2-BFD2-64CE2D0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191-3D83-4555-9F26-232A205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C701-FA34-422F-AA42-92A6CA7FF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a line when you have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930640" cy="4724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19320" y="594360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if the slope is zero the lin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t it is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50532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7692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finition of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38080" y="19051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= slope =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80880" y="3809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Serif SAIN SmBd v.1"/>
              </a:rPr>
              <a:t>To find the slope of a line from two points you need to subtract the y values and divide by the difference in the x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7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438200" cy="110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9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885600" cy="1104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-2) and (9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(-2)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-3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4/6=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895480" y="50292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52020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66680" y="5943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the line has a positive slope, that the line rises up as it goes left to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77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257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4,-2) and (-4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4-(-2)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-4-4=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-8 = -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47242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-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2189160" y="990720"/>
            <a:ext cx="5222880" cy="487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23880" y="594360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negative, that the line goes down from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1500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12408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4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3,4) and (3,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y’s -2 – 4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x’s 3 –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nd simplify -6/0 =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a fraction can not have zero in the denomin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334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un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3252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666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slope of the line is undefined, that i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181480" y="2819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-3,4) and (2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quation m =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y’s  4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x’s 2 – (-3)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nd simplify  0/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if the numerator is zero the fraction simplifies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76720" y="5562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1:45:02Z</dcterms:created>
  <dc:creator>Preferred Customer</dc:creator>
  <dc:description/>
  <dc:language>en-US</dc:language>
  <cp:lastModifiedBy>Troy</cp:lastModifiedBy>
  <dcterms:modified xsi:type="dcterms:W3CDTF">2009-10-13T03:27:47Z</dcterms:modified>
  <cp:revision>17</cp:revision>
  <dc:subject/>
  <dc:title>Slope</dc:title>
</cp:coreProperties>
</file>